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6.jpeg" ContentType="image/jpeg"/>
  <Override PartName="/ppt/media/image13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340BA-B359-4772-BD16-1DC0DA6BA0D1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zione come in modalità presentazi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op up su operazionismo a slide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Nota programmator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Quesito scelta multip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Risposta esatta 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Feedback risposta esat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Esatto: Questo esempio, descritto da Bailey, esprime in pieno l’esigenza di trasformare in operazioni concrete le proposizioni e le ipotesi da verificare. In altre parole, la felicità e la genialità non sono concetti astratti, ciò che è misurato attraverso specifiche operazioni come ad esempio, la somministrazione di un te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Feedback risposta err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Attenzione. Questa proposizione non traduce in termini operativi l’affermazione ‘I geni sono infelici’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a programmat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 da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rico a slide 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orico a slide 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nico a slide 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rativo a slide 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cerca azione a slide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imentale a slide 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482760" y="380880"/>
            <a:ext cx="10109520" cy="6494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" name=""/>
          <p:cNvGraphicFramePr/>
          <p:nvPr/>
        </p:nvGraphicFramePr>
        <p:xfrm>
          <a:off x="-453960" y="6858000"/>
          <a:ext cx="10105920" cy="69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453960" y="6858000"/>
                    <a:ext cx="1010592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" name=""/>
          <p:cNvGraphicFramePr/>
          <p:nvPr/>
        </p:nvGraphicFramePr>
        <p:xfrm>
          <a:off x="-482760" y="-27000"/>
          <a:ext cx="10109520" cy="798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-482760" y="-27000"/>
                    <a:ext cx="10109520" cy="79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"/>
          <p:cNvSpPr/>
          <p:nvPr/>
        </p:nvSpPr>
        <p:spPr>
          <a:xfrm>
            <a:off x="1042920" y="501480"/>
            <a:ext cx="4081680" cy="246240"/>
          </a:xfrm>
          <a:prstGeom prst="rect">
            <a:avLst/>
          </a:prstGeom>
          <a:solidFill>
            <a:srgbClr val="0400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ffff"/>
                </a:solidFill>
                <a:latin typeface="Verdana"/>
              </a:rPr>
              <a:t>Lezione 1: i fattori che incidono nella scelta della ricer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2920" y="58680"/>
            <a:ext cx="5851440" cy="580680"/>
          </a:xfrm>
          <a:prstGeom prst="rect">
            <a:avLst/>
          </a:prstGeom>
          <a:solidFill>
            <a:srgbClr val="0400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Verdana"/>
              </a:rPr>
              <a:t>Metodologia della ricerca  in educazione e formazione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525880" y="6948360"/>
            <a:ext cx="900000" cy="234000"/>
          </a:xfrm>
          <a:prstGeom prst="rect">
            <a:avLst/>
          </a:prstGeom>
          <a:solidFill>
            <a:srgbClr val="0400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55245-A44B-4F00-A4D7-EAF24C568F2C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 i 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-466560" y="803160"/>
            <a:ext cx="8820000" cy="24156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2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15.xml"/><Relationship Id="rId3" Type="http://schemas.openxmlformats.org/officeDocument/2006/relationships/slide" Target="slide16.xml"/><Relationship Id="rId4" Type="http://schemas.openxmlformats.org/officeDocument/2006/relationships/slide" Target="slide17.xml"/><Relationship Id="rId5" Type="http://schemas.openxmlformats.org/officeDocument/2006/relationships/slide" Target="slide18.xml"/><Relationship Id="rId6" Type="http://schemas.openxmlformats.org/officeDocument/2006/relationships/slide" Target="slide18.xml"/><Relationship Id="rId7" Type="http://schemas.openxmlformats.org/officeDocument/2006/relationships/slide" Target="slide20.xml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-468360" y="804960"/>
            <a:ext cx="8791560" cy="2397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962000" y="2478240"/>
            <a:ext cx="6553440" cy="25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Obiettivi, ipotesi e meto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n questa lezione saranno trattati i seguenti argomenti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li obiettivi della ricer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 ipotesi della ricer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l metodo della ricer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5">
            <a:lum contrast="-6000"/>
          </a:blip>
          <a:stretch/>
        </p:blipFill>
        <p:spPr>
          <a:xfrm>
            <a:off x="666720" y="2259000"/>
            <a:ext cx="1200240" cy="130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-260280" y="762120"/>
            <a:ext cx="215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Le ricerche descrit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343400" y="2124000"/>
            <a:ext cx="4267080" cy="413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on sempre disponiamo di precise ipotesi di ricerca e dunque è necessario iniziare lo studio di un fenomeno da indagini esplorative e descrittiv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d esempio nel lavoro sulla dispersione nell'università, all'inizio conoscevamo molto poco sulle caratteristiche del fenomeno e sulla sua entità numerica. C‘era ancora bisogno di classificare i "tipi" di abbandono divers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o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tudio descrittivo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risponde alla domanda "Che cosa sta accadendo?", in contrapposizione agli studi esplicativi che mirano a spiegare il perché e il come è accadut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09480" y="2057400"/>
            <a:ext cx="28940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-191160" y="762120"/>
            <a:ext cx="31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Le ricerche basate su correlazio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667400" y="1390680"/>
            <a:ext cx="4267080" cy="413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a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ricerca basata su correlazioni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esamina i fenomeni senza intervenire su di essi per modificarli (se non per il fatto di rilevare i dati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d esempio le grandi indagini internazionali dell’IEA o la OCSE-PISA sono indagini basate sulla ricerca di relazion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iò che si cerca è la conferma delle nostre ipotesi sulle relazioni tra le variabili in esam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Questa ipotesi viene confermata da appositi test statistic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a conferma di una associazione non casuale tra variabili non consente di affermare un nesso caus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85800" y="2965320"/>
            <a:ext cx="3276720" cy="28260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57200" y="2233440"/>
            <a:ext cx="2743200" cy="9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-255960" y="762120"/>
            <a:ext cx="234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Le ricerche sperimental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800600" y="1955880"/>
            <a:ext cx="3733920" cy="38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anno carattere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perimental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quegli studi che consentono di verificare gli effetti di un intervento (trattamento) su una variabile assunta come dipendent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l disegno sperimentale definisce le procedure da adottare e i tipi di controllo necessari perché le informazioni ricavate dall’esperimento possano essere utilizzat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o studio sperimentale verifica l’ipotesi “L’introduzione della variabile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(trattamento)  causerà la  [tale] modifica della variabile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X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”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1482840" y="2217600"/>
            <a:ext cx="1031760" cy="1219320"/>
            <a:chOff x="1482840" y="2217600"/>
            <a:chExt cx="1031760" cy="1219320"/>
          </a:xfrm>
        </p:grpSpPr>
        <p:pic>
          <p:nvPicPr>
            <p:cNvPr id="142" name="" descr=""/>
            <p:cNvPicPr/>
            <p:nvPr/>
          </p:nvPicPr>
          <p:blipFill>
            <a:blip r:embed="rId1"/>
            <a:srcRect l="0" t="0" r="52656" b="0"/>
            <a:stretch/>
          </p:blipFill>
          <p:spPr>
            <a:xfrm>
              <a:off x="1482840" y="2217600"/>
              <a:ext cx="49824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" descr=""/>
            <p:cNvPicPr/>
            <p:nvPr/>
          </p:nvPicPr>
          <p:blipFill>
            <a:blip r:embed="rId2"/>
            <a:srcRect l="0" t="0" r="52656" b="0"/>
            <a:stretch/>
          </p:blipFill>
          <p:spPr>
            <a:xfrm>
              <a:off x="2016000" y="2217600"/>
              <a:ext cx="498600" cy="1219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4" name=""/>
          <p:cNvGrpSpPr/>
          <p:nvPr/>
        </p:nvGrpSpPr>
        <p:grpSpPr>
          <a:xfrm>
            <a:off x="1571400" y="3513240"/>
            <a:ext cx="2293920" cy="764280"/>
            <a:chOff x="1571400" y="3513240"/>
            <a:chExt cx="2293920" cy="764280"/>
          </a:xfrm>
        </p:grpSpPr>
        <p:sp>
          <p:nvSpPr>
            <p:cNvPr id="145" name=""/>
            <p:cNvSpPr/>
            <p:nvPr/>
          </p:nvSpPr>
          <p:spPr>
            <a:xfrm>
              <a:off x="1571400" y="3513240"/>
              <a:ext cx="7401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9933"/>
                  </a:solidFill>
                  <a:latin typeface="Wingdings 3"/>
                  <a:ea typeface="Wingdings 3"/>
                </a:rPr>
                <a:t>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602440" y="3589200"/>
              <a:ext cx="1262880" cy="3373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Variabile 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1523880" y="4199040"/>
            <a:ext cx="2362320" cy="1135080"/>
            <a:chOff x="1523880" y="4199040"/>
            <a:chExt cx="2362320" cy="1135080"/>
          </a:xfrm>
        </p:grpSpPr>
        <p:pic>
          <p:nvPicPr>
            <p:cNvPr id="148" name="" descr=""/>
            <p:cNvPicPr/>
            <p:nvPr/>
          </p:nvPicPr>
          <p:blipFill>
            <a:blip r:embed="rId3"/>
            <a:stretch/>
          </p:blipFill>
          <p:spPr>
            <a:xfrm>
              <a:off x="1523880" y="4199040"/>
              <a:ext cx="395280" cy="113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" descr=""/>
            <p:cNvPicPr/>
            <p:nvPr/>
          </p:nvPicPr>
          <p:blipFill>
            <a:blip r:embed="rId4"/>
            <a:stretch/>
          </p:blipFill>
          <p:spPr>
            <a:xfrm>
              <a:off x="2057400" y="4199040"/>
              <a:ext cx="395280" cy="113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2590920" y="4427640"/>
              <a:ext cx="1295280" cy="5806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odifica variabile X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181160" y="1631880"/>
            <a:ext cx="6858000" cy="47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Verdana"/>
              </a:rPr>
              <a:t>Riepilogando quanto visto finora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Obiettivo di una ricerca è la verifica di una o più ipotesi. Un'ipotesi  è una affermazione su un evento futuro o comunque su un evento il cui esito è sconosciuto al momento in cui viene fatta l'affermazione, costruita in modo di poter essere respinta” (Blalock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Per formulare ipotesi verificabile è necessario </a:t>
            </a:r>
            <a:r>
              <a:rPr b="1" lang="it-IT" sz="1600" spc="-1" strike="noStrike">
                <a:solidFill>
                  <a:srgbClr val="000000"/>
                </a:solidFill>
                <a:latin typeface="Verdana"/>
              </a:rPr>
              <a:t>operazionalizzare</a:t>
            </a: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 i concetti, cioè definirli sulla base di un corrispondente gruppo di operazioni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E’ possibile scegliere tra approcci e modalità diversi per procedere all’impostazione di una ricerca e alla verifica delle ipotesi. Questi approcci vengono chiamati metodi e metodologie</a:t>
            </a:r>
            <a:r>
              <a:rPr b="0" lang="it-IT" sz="1600" spc="-1" strike="noStrike">
                <a:solidFill>
                  <a:srgbClr val="800080"/>
                </a:solidFill>
                <a:latin typeface="Verdana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Definiamo quindi  ‘metodo’ quel percorso che stabilisce l’impianto complessivo dell’attività di ricerca e ne è costitutivo della sua scientificit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Le modalità di ricerca possono essere di tre tipi: descrittiva, basata su correlazioni e sperimenta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-330120" y="762120"/>
            <a:ext cx="101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Riepilo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6"/>
          <a:stretch/>
        </p:blipFill>
        <p:spPr>
          <a:xfrm>
            <a:off x="0" y="1768320"/>
            <a:ext cx="11779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568520" y="1728720"/>
            <a:ext cx="6208560" cy="436716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1728720" y="1832040"/>
            <a:ext cx="578952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Il concetto di operazionismo è legato al lavoro del fisico Percy W.  Bridgman (1948), che muoveva dall'idea che i concetti scientifici dovessero essere, come i dati scientifici, pubblic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Un concetto teorico deve dunque essere legato ad operazioni osservabili che qualsiasi persona può osservare o ripeter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"In generale per concetto non intendiamo altro che un gruppo di operazioni ; il concetto è sinonimo del corrispondente gruppo di operazioni" (Bridgman, 1948, trad. it. 1973, p. 37) Esiste tuttavia la possibilità di derivare i concetti dalle teorie. (spiegar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Bridgman P.W. (1948), </a:t>
            </a:r>
            <a:r>
              <a:rPr b="0" i="1" lang="it-IT" sz="1600" spc="-1" strike="noStrike">
                <a:solidFill>
                  <a:srgbClr val="000000"/>
                </a:solidFill>
                <a:latin typeface="Verdana"/>
              </a:rPr>
              <a:t>The logic of Modern Phyisics </a:t>
            </a: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, New York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Mcmillan; trad. it </a:t>
            </a:r>
            <a:r>
              <a:rPr b="0" i="1" lang="it-IT" sz="1600" spc="-1" strike="noStrike">
                <a:solidFill>
                  <a:srgbClr val="000000"/>
                </a:solidFill>
                <a:latin typeface="Verdana"/>
              </a:rPr>
              <a:t>La logica della fisica </a:t>
            </a: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, Torino, Boringhieri, 1973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957360" y="5078520"/>
            <a:ext cx="65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Verdana"/>
              </a:rPr>
              <a:t>chiud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568520" y="1728720"/>
            <a:ext cx="6521400" cy="45007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1847880" y="1870200"/>
            <a:ext cx="6000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’approccio storico ha dato vita a un settore fortemente sviluppato degli studi pedagogici. Questo tipo di ricerca dedica i suoi sforzi all’esame delle dottrine pedagogiche, delle pratiche educative, della scuola e delle altre istituzioni formative. L’impianto metodologico è legato all’esame delle fonti e ai diversi paradigmi storiografici che regolano la ricostruzione, la narrazione e l’interpretazione di eventi e dottrin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73360" y="5673600"/>
            <a:ext cx="65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Verdana"/>
              </a:rPr>
              <a:t>chiud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48520" y="5673600"/>
            <a:ext cx="700200" cy="274680"/>
          </a:xfrm>
          <a:custGeom>
            <a:avLst/>
            <a:gdLst>
              <a:gd name="textAreaLeft" fmla="*/ 17640 w 700200"/>
              <a:gd name="textAreaRight" fmla="*/ 682560 w 70020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55018" h="21600">
                <a:moveTo>
                  <a:pt x="0" y="0"/>
                </a:moveTo>
                <a:lnTo>
                  <a:pt x="55018" y="0"/>
                </a:lnTo>
                <a:lnTo>
                  <a:pt x="55018" y="21600"/>
                </a:lnTo>
                <a:lnTo>
                  <a:pt x="0" y="21600"/>
                </a:lnTo>
                <a:close/>
              </a:path>
              <a:path fill="lightenLess" w="55018" h="21600">
                <a:moveTo>
                  <a:pt x="0" y="0"/>
                </a:moveTo>
                <a:lnTo>
                  <a:pt x="55018" y="0"/>
                </a:lnTo>
                <a:lnTo>
                  <a:pt x="53618" y="1400"/>
                </a:lnTo>
                <a:lnTo>
                  <a:pt x="1400" y="1400"/>
                </a:lnTo>
                <a:close/>
              </a:path>
              <a:path fill="darken" w="55018" h="21600">
                <a:moveTo>
                  <a:pt x="55018" y="0"/>
                </a:moveTo>
                <a:lnTo>
                  <a:pt x="55018" y="21600"/>
                </a:lnTo>
                <a:lnTo>
                  <a:pt x="53618" y="20200"/>
                </a:lnTo>
                <a:lnTo>
                  <a:pt x="53618" y="1400"/>
                </a:lnTo>
                <a:close/>
              </a:path>
              <a:path fill="darkenLess" w="55018" h="21600">
                <a:moveTo>
                  <a:pt x="550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618" y="20200"/>
                </a:lnTo>
                <a:close/>
              </a:path>
              <a:path fill="lighten" w="550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109520" y="2502000"/>
            <a:ext cx="6205680" cy="376848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1352520" y="2593800"/>
            <a:ext cx="5456160" cy="29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’approccio teorico è volto ad approfondire con strumenti conoscitivi di tipo logico ed epistemologico gli apparati concettuali e i costrutti teorici che stanno alla base della ricerca educativ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uttavia, fare ricerca teorica non significa estraniarsi alla dimensione empirica dell’esperienza che resta sempre un punto di riferimento costante per le ricerche in campo educativ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133680" y="5673600"/>
            <a:ext cx="65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Verdana"/>
              </a:rPr>
              <a:t>chiud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108840" y="5673600"/>
            <a:ext cx="699840" cy="274680"/>
          </a:xfrm>
          <a:custGeom>
            <a:avLst/>
            <a:gdLst>
              <a:gd name="textAreaLeft" fmla="*/ 17640 w 699840"/>
              <a:gd name="textAreaRight" fmla="*/ 682200 w 69984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54990" h="21600">
                <a:moveTo>
                  <a:pt x="0" y="0"/>
                </a:moveTo>
                <a:lnTo>
                  <a:pt x="54990" y="0"/>
                </a:lnTo>
                <a:lnTo>
                  <a:pt x="54990" y="21600"/>
                </a:lnTo>
                <a:lnTo>
                  <a:pt x="0" y="21600"/>
                </a:lnTo>
                <a:close/>
              </a:path>
              <a:path fill="lightenLess" w="54990" h="21600">
                <a:moveTo>
                  <a:pt x="0" y="0"/>
                </a:moveTo>
                <a:lnTo>
                  <a:pt x="54990" y="0"/>
                </a:lnTo>
                <a:lnTo>
                  <a:pt x="53590" y="1400"/>
                </a:lnTo>
                <a:lnTo>
                  <a:pt x="1400" y="1400"/>
                </a:lnTo>
                <a:close/>
              </a:path>
              <a:path fill="darken" w="54990" h="21600">
                <a:moveTo>
                  <a:pt x="54990" y="0"/>
                </a:moveTo>
                <a:lnTo>
                  <a:pt x="54990" y="21600"/>
                </a:lnTo>
                <a:lnTo>
                  <a:pt x="53590" y="20200"/>
                </a:lnTo>
                <a:lnTo>
                  <a:pt x="53590" y="1400"/>
                </a:lnTo>
                <a:close/>
              </a:path>
              <a:path fill="darkenLess" w="54990" h="21600">
                <a:moveTo>
                  <a:pt x="549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590" y="20200"/>
                </a:lnTo>
                <a:close/>
              </a:path>
              <a:path fill="lighten" w="549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108840" y="5673600"/>
            <a:ext cx="699840" cy="274680"/>
          </a:xfrm>
          <a:custGeom>
            <a:avLst/>
            <a:gdLst>
              <a:gd name="textAreaLeft" fmla="*/ 17640 w 699840"/>
              <a:gd name="textAreaRight" fmla="*/ 682200 w 69984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54990" h="21600">
                <a:moveTo>
                  <a:pt x="0" y="0"/>
                </a:moveTo>
                <a:lnTo>
                  <a:pt x="54990" y="0"/>
                </a:lnTo>
                <a:lnTo>
                  <a:pt x="54990" y="21600"/>
                </a:lnTo>
                <a:lnTo>
                  <a:pt x="0" y="21600"/>
                </a:lnTo>
                <a:close/>
              </a:path>
              <a:path fill="lightenLess" w="54990" h="21600">
                <a:moveTo>
                  <a:pt x="0" y="0"/>
                </a:moveTo>
                <a:lnTo>
                  <a:pt x="54990" y="0"/>
                </a:lnTo>
                <a:lnTo>
                  <a:pt x="53590" y="1400"/>
                </a:lnTo>
                <a:lnTo>
                  <a:pt x="1400" y="1400"/>
                </a:lnTo>
                <a:close/>
              </a:path>
              <a:path fill="darken" w="54990" h="21600">
                <a:moveTo>
                  <a:pt x="54990" y="0"/>
                </a:moveTo>
                <a:lnTo>
                  <a:pt x="54990" y="21600"/>
                </a:lnTo>
                <a:lnTo>
                  <a:pt x="53590" y="20200"/>
                </a:lnTo>
                <a:lnTo>
                  <a:pt x="53590" y="1400"/>
                </a:lnTo>
                <a:close/>
              </a:path>
              <a:path fill="darkenLess" w="54990" h="21600">
                <a:moveTo>
                  <a:pt x="549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590" y="20200"/>
                </a:lnTo>
                <a:close/>
              </a:path>
              <a:path fill="lighten" w="549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1728720"/>
            <a:ext cx="6953400" cy="44341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228600" y="1832040"/>
            <a:ext cx="6724800" cy="264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’approccio clinico è una modalità di ricerca che mette al centro del suo interesse l’individuo, nella sua particolarità e nella sua storia persona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iù in generale, oggi si intende con approccio clinico un modo di comprendere e spiegare casi concreti e situazioni individuali con particolare attenzione all’analisi qualitativa di singoli casi individuali. Ciò non toglie che, come nel campo medico e psicologico, prevede la possibilità di generalizzazioni quantitativ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20840" y="5398920"/>
            <a:ext cx="65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Verdana"/>
              </a:rPr>
              <a:t>chiud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796000" y="5398920"/>
            <a:ext cx="700200" cy="274680"/>
          </a:xfrm>
          <a:custGeom>
            <a:avLst/>
            <a:gdLst>
              <a:gd name="textAreaLeft" fmla="*/ 17640 w 700200"/>
              <a:gd name="textAreaRight" fmla="*/ 682560 w 70020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55018" h="21600">
                <a:moveTo>
                  <a:pt x="0" y="0"/>
                </a:moveTo>
                <a:lnTo>
                  <a:pt x="55018" y="0"/>
                </a:lnTo>
                <a:lnTo>
                  <a:pt x="55018" y="21600"/>
                </a:lnTo>
                <a:lnTo>
                  <a:pt x="0" y="21600"/>
                </a:lnTo>
                <a:close/>
              </a:path>
              <a:path fill="lightenLess" w="55018" h="21600">
                <a:moveTo>
                  <a:pt x="0" y="0"/>
                </a:moveTo>
                <a:lnTo>
                  <a:pt x="55018" y="0"/>
                </a:lnTo>
                <a:lnTo>
                  <a:pt x="53618" y="1400"/>
                </a:lnTo>
                <a:lnTo>
                  <a:pt x="1400" y="1400"/>
                </a:lnTo>
                <a:close/>
              </a:path>
              <a:path fill="darken" w="55018" h="21600">
                <a:moveTo>
                  <a:pt x="55018" y="0"/>
                </a:moveTo>
                <a:lnTo>
                  <a:pt x="55018" y="21600"/>
                </a:lnTo>
                <a:lnTo>
                  <a:pt x="53618" y="20200"/>
                </a:lnTo>
                <a:lnTo>
                  <a:pt x="53618" y="1400"/>
                </a:lnTo>
                <a:close/>
              </a:path>
              <a:path fill="darkenLess" w="55018" h="21600">
                <a:moveTo>
                  <a:pt x="550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618" y="20200"/>
                </a:lnTo>
                <a:close/>
              </a:path>
              <a:path fill="lighten" w="550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796000" y="5398920"/>
            <a:ext cx="700200" cy="274680"/>
          </a:xfrm>
          <a:custGeom>
            <a:avLst/>
            <a:gdLst>
              <a:gd name="textAreaLeft" fmla="*/ 17640 w 700200"/>
              <a:gd name="textAreaRight" fmla="*/ 682560 w 70020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55018" h="21600">
                <a:moveTo>
                  <a:pt x="0" y="0"/>
                </a:moveTo>
                <a:lnTo>
                  <a:pt x="55018" y="0"/>
                </a:lnTo>
                <a:lnTo>
                  <a:pt x="55018" y="21600"/>
                </a:lnTo>
                <a:lnTo>
                  <a:pt x="0" y="21600"/>
                </a:lnTo>
                <a:close/>
              </a:path>
              <a:path fill="lightenLess" w="55018" h="21600">
                <a:moveTo>
                  <a:pt x="0" y="0"/>
                </a:moveTo>
                <a:lnTo>
                  <a:pt x="55018" y="0"/>
                </a:lnTo>
                <a:lnTo>
                  <a:pt x="53618" y="1400"/>
                </a:lnTo>
                <a:lnTo>
                  <a:pt x="1400" y="1400"/>
                </a:lnTo>
                <a:close/>
              </a:path>
              <a:path fill="darken" w="55018" h="21600">
                <a:moveTo>
                  <a:pt x="55018" y="0"/>
                </a:moveTo>
                <a:lnTo>
                  <a:pt x="55018" y="21600"/>
                </a:lnTo>
                <a:lnTo>
                  <a:pt x="53618" y="20200"/>
                </a:lnTo>
                <a:lnTo>
                  <a:pt x="53618" y="1400"/>
                </a:lnTo>
                <a:close/>
              </a:path>
              <a:path fill="darkenLess" w="55018" h="21600">
                <a:moveTo>
                  <a:pt x="550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618" y="20200"/>
                </a:lnTo>
                <a:close/>
              </a:path>
              <a:path fill="lighten" w="550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1728720"/>
            <a:ext cx="7467480" cy="261468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266760" y="1832040"/>
            <a:ext cx="69152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’approccio comparativo adotta il confronto sistematico tra modelli educativi e sistemi formativi di differenti contesti regionali e nazionali. L’educazione comparata può essere, infatti, definita come: la scienza che scopre, analizza e spiega le somiglianze e le differenze fra i fatti educativi nelle loro relazioni con il contesto politico, economico, sociale e cultura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73160" y="3846600"/>
            <a:ext cx="65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Verdana"/>
              </a:rPr>
              <a:t>chiud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448320" y="3846600"/>
            <a:ext cx="700200" cy="274680"/>
          </a:xfrm>
          <a:custGeom>
            <a:avLst/>
            <a:gdLst>
              <a:gd name="textAreaLeft" fmla="*/ 17640 w 700200"/>
              <a:gd name="textAreaRight" fmla="*/ 682560 w 70020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55018" h="21600">
                <a:moveTo>
                  <a:pt x="0" y="0"/>
                </a:moveTo>
                <a:lnTo>
                  <a:pt x="55018" y="0"/>
                </a:lnTo>
                <a:lnTo>
                  <a:pt x="55018" y="21600"/>
                </a:lnTo>
                <a:lnTo>
                  <a:pt x="0" y="21600"/>
                </a:lnTo>
                <a:close/>
              </a:path>
              <a:path fill="lightenLess" w="55018" h="21600">
                <a:moveTo>
                  <a:pt x="0" y="0"/>
                </a:moveTo>
                <a:lnTo>
                  <a:pt x="55018" y="0"/>
                </a:lnTo>
                <a:lnTo>
                  <a:pt x="53618" y="1400"/>
                </a:lnTo>
                <a:lnTo>
                  <a:pt x="1400" y="1400"/>
                </a:lnTo>
                <a:close/>
              </a:path>
              <a:path fill="darken" w="55018" h="21600">
                <a:moveTo>
                  <a:pt x="55018" y="0"/>
                </a:moveTo>
                <a:lnTo>
                  <a:pt x="55018" y="21600"/>
                </a:lnTo>
                <a:lnTo>
                  <a:pt x="53618" y="20200"/>
                </a:lnTo>
                <a:lnTo>
                  <a:pt x="53618" y="1400"/>
                </a:lnTo>
                <a:close/>
              </a:path>
              <a:path fill="darkenLess" w="55018" h="21600">
                <a:moveTo>
                  <a:pt x="550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618" y="20200"/>
                </a:lnTo>
                <a:close/>
              </a:path>
              <a:path fill="lighten" w="550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448320" y="3846600"/>
            <a:ext cx="733680" cy="274680"/>
          </a:xfrm>
          <a:custGeom>
            <a:avLst/>
            <a:gdLst>
              <a:gd name="textAreaLeft" fmla="*/ 17640 w 733680"/>
              <a:gd name="textAreaRight" fmla="*/ 716040 w 73368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57647" h="21600">
                <a:moveTo>
                  <a:pt x="0" y="0"/>
                </a:moveTo>
                <a:lnTo>
                  <a:pt x="57647" y="0"/>
                </a:lnTo>
                <a:lnTo>
                  <a:pt x="57647" y="21600"/>
                </a:lnTo>
                <a:lnTo>
                  <a:pt x="0" y="21600"/>
                </a:lnTo>
                <a:close/>
              </a:path>
              <a:path fill="lightenLess" w="57647" h="21600">
                <a:moveTo>
                  <a:pt x="0" y="0"/>
                </a:moveTo>
                <a:lnTo>
                  <a:pt x="57647" y="0"/>
                </a:lnTo>
                <a:lnTo>
                  <a:pt x="56247" y="1400"/>
                </a:lnTo>
                <a:lnTo>
                  <a:pt x="1400" y="1400"/>
                </a:lnTo>
                <a:close/>
              </a:path>
              <a:path fill="darken" w="57647" h="21600">
                <a:moveTo>
                  <a:pt x="57647" y="0"/>
                </a:moveTo>
                <a:lnTo>
                  <a:pt x="57647" y="21600"/>
                </a:lnTo>
                <a:lnTo>
                  <a:pt x="56247" y="20200"/>
                </a:lnTo>
                <a:lnTo>
                  <a:pt x="56247" y="1400"/>
                </a:lnTo>
                <a:close/>
              </a:path>
              <a:path fill="darkenLess" w="57647" h="21600">
                <a:moveTo>
                  <a:pt x="576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247" y="20200"/>
                </a:lnTo>
                <a:close/>
              </a:path>
              <a:path fill="lighten" w="576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1728720"/>
            <a:ext cx="8458200" cy="26910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228600" y="1832040"/>
            <a:ext cx="8229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l metodo di ricerca-azione, è un tipo di indagine riflessiva, orientata all’azione e al cambiamento, è condotta da ricercatori che indagano sulle proprie azioni al fine di risolvere situazioni problematiche e tentare di apportare dei miglioramenti. Si tratta di un modo collaborativo attualmente molto discusso per le finalità gli ambiti di applicazione e l’attendibilità dei sui risultat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173360" y="3863880"/>
            <a:ext cx="65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Verdana"/>
              </a:rPr>
              <a:t>chiud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148520" y="3863880"/>
            <a:ext cx="700200" cy="274680"/>
          </a:xfrm>
          <a:custGeom>
            <a:avLst/>
            <a:gdLst>
              <a:gd name="textAreaLeft" fmla="*/ 17640 w 700200"/>
              <a:gd name="textAreaRight" fmla="*/ 682560 w 70020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55018" h="21600">
                <a:moveTo>
                  <a:pt x="0" y="0"/>
                </a:moveTo>
                <a:lnTo>
                  <a:pt x="55018" y="0"/>
                </a:lnTo>
                <a:lnTo>
                  <a:pt x="55018" y="21600"/>
                </a:lnTo>
                <a:lnTo>
                  <a:pt x="0" y="21600"/>
                </a:lnTo>
                <a:close/>
              </a:path>
              <a:path fill="lightenLess" w="55018" h="21600">
                <a:moveTo>
                  <a:pt x="0" y="0"/>
                </a:moveTo>
                <a:lnTo>
                  <a:pt x="55018" y="0"/>
                </a:lnTo>
                <a:lnTo>
                  <a:pt x="53618" y="1400"/>
                </a:lnTo>
                <a:lnTo>
                  <a:pt x="1400" y="1400"/>
                </a:lnTo>
                <a:close/>
              </a:path>
              <a:path fill="darken" w="55018" h="21600">
                <a:moveTo>
                  <a:pt x="55018" y="0"/>
                </a:moveTo>
                <a:lnTo>
                  <a:pt x="55018" y="21600"/>
                </a:lnTo>
                <a:lnTo>
                  <a:pt x="53618" y="20200"/>
                </a:lnTo>
                <a:lnTo>
                  <a:pt x="53618" y="1400"/>
                </a:lnTo>
                <a:close/>
              </a:path>
              <a:path fill="darkenLess" w="55018" h="21600">
                <a:moveTo>
                  <a:pt x="550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618" y="20200"/>
                </a:lnTo>
                <a:close/>
              </a:path>
              <a:path fill="lighten" w="550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148520" y="3863880"/>
            <a:ext cx="700200" cy="274680"/>
          </a:xfrm>
          <a:custGeom>
            <a:avLst/>
            <a:gdLst>
              <a:gd name="textAreaLeft" fmla="*/ 17640 w 700200"/>
              <a:gd name="textAreaRight" fmla="*/ 682560 w 70020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55018" h="21600">
                <a:moveTo>
                  <a:pt x="0" y="0"/>
                </a:moveTo>
                <a:lnTo>
                  <a:pt x="55018" y="0"/>
                </a:lnTo>
                <a:lnTo>
                  <a:pt x="55018" y="21600"/>
                </a:lnTo>
                <a:lnTo>
                  <a:pt x="0" y="21600"/>
                </a:lnTo>
                <a:close/>
              </a:path>
              <a:path fill="lightenLess" w="55018" h="21600">
                <a:moveTo>
                  <a:pt x="0" y="0"/>
                </a:moveTo>
                <a:lnTo>
                  <a:pt x="55018" y="0"/>
                </a:lnTo>
                <a:lnTo>
                  <a:pt x="53618" y="1400"/>
                </a:lnTo>
                <a:lnTo>
                  <a:pt x="1400" y="1400"/>
                </a:lnTo>
                <a:close/>
              </a:path>
              <a:path fill="darken" w="55018" h="21600">
                <a:moveTo>
                  <a:pt x="55018" y="0"/>
                </a:moveTo>
                <a:lnTo>
                  <a:pt x="55018" y="21600"/>
                </a:lnTo>
                <a:lnTo>
                  <a:pt x="53618" y="20200"/>
                </a:lnTo>
                <a:lnTo>
                  <a:pt x="53618" y="1400"/>
                </a:lnTo>
                <a:close/>
              </a:path>
              <a:path fill="darkenLess" w="55018" h="21600">
                <a:moveTo>
                  <a:pt x="550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618" y="20200"/>
                </a:lnTo>
                <a:close/>
              </a:path>
              <a:path fill="lighten" w="550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-249840" y="762120"/>
            <a:ext cx="235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Gli obiettivi della ricer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724280" y="1981080"/>
            <a:ext cx="4114800" cy="4324320"/>
          </a:xfrm>
          <a:prstGeom prst="rect">
            <a:avLst/>
          </a:prstGeom>
          <a:solidFill>
            <a:srgbClr val="bfcfe0"/>
          </a:solidFill>
          <a:ln w="15840">
            <a:solidFill>
              <a:srgbClr val="3333cc"/>
            </a:solidFill>
            <a:miter/>
          </a:ln>
          <a:effectLst>
            <a:outerShdw dist="107932" dir="2700000" blurRad="0" rotWithShape="0">
              <a:srgbClr val="eaeae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181480" y="2416320"/>
            <a:ext cx="3221280" cy="32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Obiettivo di una ricerca è la verifica di una o più ipotes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"Un'ipotesi  è una affermazione su un evento futuro o comunque su un evento il cui esito è sconosciuto al momento in cui viene fatta l'affermazione costruita in modo di poter essere respinta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(Blalock)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rcRect l="18624" t="0" r="0" b="0"/>
          <a:stretch/>
        </p:blipFill>
        <p:spPr>
          <a:xfrm>
            <a:off x="609480" y="1981080"/>
            <a:ext cx="3048120" cy="37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181160" y="1603440"/>
            <a:ext cx="7962840" cy="38448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1181160" y="1832040"/>
            <a:ext cx="7696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’approccio sperimentale adotta procedure di ricerca rigorose e controllate. L’esperimento in senso stretto prevede l’intervento attivo dello sperimentatore che opera introducendo, sulla base di un modello teorico rigoroso e in una situazione fortemente controllata, una o più variabili indipendenti per verificare gli effetti di queste sulla variabile dipendente, stabilendo un rapporto di causa ed effetto tra l’intervento effettuato e il risultato osservato. Rientrano in questo approccio anche le ricerche basate sull’analisi delle ‘correlazioni’ tra variabil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173360" y="4873680"/>
            <a:ext cx="65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Verdana"/>
              </a:rPr>
              <a:t>chiud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148520" y="4873680"/>
            <a:ext cx="700200" cy="274680"/>
          </a:xfrm>
          <a:custGeom>
            <a:avLst/>
            <a:gdLst>
              <a:gd name="textAreaLeft" fmla="*/ 17640 w 700200"/>
              <a:gd name="textAreaRight" fmla="*/ 682560 w 70020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55018" h="21600">
                <a:moveTo>
                  <a:pt x="0" y="0"/>
                </a:moveTo>
                <a:lnTo>
                  <a:pt x="55018" y="0"/>
                </a:lnTo>
                <a:lnTo>
                  <a:pt x="55018" y="21600"/>
                </a:lnTo>
                <a:lnTo>
                  <a:pt x="0" y="21600"/>
                </a:lnTo>
                <a:close/>
              </a:path>
              <a:path fill="lightenLess" w="55018" h="21600">
                <a:moveTo>
                  <a:pt x="0" y="0"/>
                </a:moveTo>
                <a:lnTo>
                  <a:pt x="55018" y="0"/>
                </a:lnTo>
                <a:lnTo>
                  <a:pt x="53618" y="1400"/>
                </a:lnTo>
                <a:lnTo>
                  <a:pt x="1400" y="1400"/>
                </a:lnTo>
                <a:close/>
              </a:path>
              <a:path fill="darken" w="55018" h="21600">
                <a:moveTo>
                  <a:pt x="55018" y="0"/>
                </a:moveTo>
                <a:lnTo>
                  <a:pt x="55018" y="21600"/>
                </a:lnTo>
                <a:lnTo>
                  <a:pt x="53618" y="20200"/>
                </a:lnTo>
                <a:lnTo>
                  <a:pt x="53618" y="1400"/>
                </a:lnTo>
                <a:close/>
              </a:path>
              <a:path fill="darkenLess" w="55018" h="21600">
                <a:moveTo>
                  <a:pt x="550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618" y="20200"/>
                </a:lnTo>
                <a:close/>
              </a:path>
              <a:path fill="lighten" w="550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148520" y="4873680"/>
            <a:ext cx="700200" cy="274680"/>
          </a:xfrm>
          <a:custGeom>
            <a:avLst/>
            <a:gdLst>
              <a:gd name="textAreaLeft" fmla="*/ 17640 w 700200"/>
              <a:gd name="textAreaRight" fmla="*/ 682560 w 70020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55018" h="21600">
                <a:moveTo>
                  <a:pt x="0" y="0"/>
                </a:moveTo>
                <a:lnTo>
                  <a:pt x="55018" y="0"/>
                </a:lnTo>
                <a:lnTo>
                  <a:pt x="55018" y="21600"/>
                </a:lnTo>
                <a:lnTo>
                  <a:pt x="0" y="21600"/>
                </a:lnTo>
                <a:close/>
              </a:path>
              <a:path fill="lightenLess" w="55018" h="21600">
                <a:moveTo>
                  <a:pt x="0" y="0"/>
                </a:moveTo>
                <a:lnTo>
                  <a:pt x="55018" y="0"/>
                </a:lnTo>
                <a:lnTo>
                  <a:pt x="53618" y="1400"/>
                </a:lnTo>
                <a:lnTo>
                  <a:pt x="1400" y="1400"/>
                </a:lnTo>
                <a:close/>
              </a:path>
              <a:path fill="darken" w="55018" h="21600">
                <a:moveTo>
                  <a:pt x="55018" y="0"/>
                </a:moveTo>
                <a:lnTo>
                  <a:pt x="55018" y="21600"/>
                </a:lnTo>
                <a:lnTo>
                  <a:pt x="53618" y="20200"/>
                </a:lnTo>
                <a:lnTo>
                  <a:pt x="53618" y="1400"/>
                </a:lnTo>
                <a:close/>
              </a:path>
              <a:path fill="darkenLess" w="55018" h="21600">
                <a:moveTo>
                  <a:pt x="550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618" y="20200"/>
                </a:lnTo>
                <a:close/>
              </a:path>
              <a:path fill="lighten" w="550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-234360" y="762120"/>
            <a:ext cx="217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Le ipotesi della ricer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01600" y="2190600"/>
            <a:ext cx="3733920" cy="27226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4724280" y="1752480"/>
            <a:ext cx="4038840" cy="46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 può dire di aver verificato u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ipotesi 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utti i possibili risultati dell'esperimento o dell'osservazione sono stati definiti prima della verific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ima della verifica sono stati decise le procedure che verranno utilizzate per accertare i risultati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' stato deciso in anticipo quali tra i possibili risultati porteranno a respingere l'ipotesi o ad accettarl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 è effettuato un esperimento con rigorosa osservazione delle procedure per la rilevazione dei dat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-215640" y="762120"/>
            <a:ext cx="217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Le ipotesi della ricer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848200" y="2476440"/>
            <a:ext cx="3124440" cy="1123920"/>
            <a:chOff x="5848200" y="2476440"/>
            <a:chExt cx="3124440" cy="1123920"/>
          </a:xfrm>
        </p:grpSpPr>
        <p:sp>
          <p:nvSpPr>
            <p:cNvPr id="66" name=""/>
            <p:cNvSpPr/>
            <p:nvPr/>
          </p:nvSpPr>
          <p:spPr>
            <a:xfrm>
              <a:off x="5848200" y="2476440"/>
              <a:ext cx="3124440" cy="1123920"/>
            </a:xfrm>
            <a:prstGeom prst="rect">
              <a:avLst/>
            </a:prstGeom>
            <a:solidFill>
              <a:srgbClr val="bfcfe0"/>
            </a:solidFill>
            <a:ln w="15840">
              <a:solidFill>
                <a:srgbClr val="3333cc"/>
              </a:solidFill>
              <a:miter/>
            </a:ln>
            <a:effectLst>
              <a:outerShdw dist="107932" dir="2700000" blurRad="0" rotWithShape="0">
                <a:srgbClr val="eaeae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905440" y="2647800"/>
              <a:ext cx="2743200" cy="7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’utilizzazione sistematica di audiovisivi favorisce nella scuola media un apprendimento migliore delle lingue strani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-57240" y="4194000"/>
            <a:ext cx="3143520" cy="1216080"/>
            <a:chOff x="-57240" y="4194000"/>
            <a:chExt cx="3143520" cy="1216080"/>
          </a:xfrm>
        </p:grpSpPr>
        <p:sp>
          <p:nvSpPr>
            <p:cNvPr id="69" name=""/>
            <p:cNvSpPr/>
            <p:nvPr/>
          </p:nvSpPr>
          <p:spPr>
            <a:xfrm>
              <a:off x="-57240" y="4194000"/>
              <a:ext cx="3143520" cy="1216080"/>
            </a:xfrm>
            <a:prstGeom prst="rect">
              <a:avLst/>
            </a:prstGeom>
            <a:solidFill>
              <a:srgbClr val="bfcfe0"/>
            </a:solidFill>
            <a:ln w="15840">
              <a:solidFill>
                <a:srgbClr val="3333cc"/>
              </a:solidFill>
              <a:miter/>
            </a:ln>
            <a:effectLst>
              <a:outerShdw dist="107932" dir="2700000" blurRad="0" rotWithShape="0">
                <a:srgbClr val="eaeae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33200" y="4346640"/>
              <a:ext cx="2743200" cy="9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Esiste una correlazione significativa tra il livello della spesa e dell'investimento formativo ed i risultati di apprendimento degli studenti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-38160" y="2381400"/>
            <a:ext cx="3143160" cy="1353960"/>
            <a:chOff x="-38160" y="2381400"/>
            <a:chExt cx="3143160" cy="1353960"/>
          </a:xfrm>
        </p:grpSpPr>
        <p:sp>
          <p:nvSpPr>
            <p:cNvPr id="72" name=""/>
            <p:cNvSpPr/>
            <p:nvPr/>
          </p:nvSpPr>
          <p:spPr>
            <a:xfrm>
              <a:off x="-38160" y="2381400"/>
              <a:ext cx="3143160" cy="1353960"/>
            </a:xfrm>
            <a:prstGeom prst="rect">
              <a:avLst/>
            </a:prstGeom>
            <a:solidFill>
              <a:srgbClr val="bfcfe0"/>
            </a:solidFill>
            <a:ln w="15840">
              <a:solidFill>
                <a:srgbClr val="3333cc"/>
              </a:solidFill>
              <a:miter/>
            </a:ln>
            <a:effectLst>
              <a:outerShdw dist="107932" dir="2700000" blurRad="0" rotWithShape="0">
                <a:srgbClr val="eaeae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9080" y="2400480"/>
              <a:ext cx="3048120" cy="127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 livelli di profitto in italiano alla fine della scuola elementare degli studenti che hanno frequentato la scuola materna sono migliori di quelli degli studenti che non la hanno frequentata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" name=""/>
          <p:cNvSpPr/>
          <p:nvPr/>
        </p:nvSpPr>
        <p:spPr>
          <a:xfrm>
            <a:off x="304920" y="1523880"/>
            <a:ext cx="830556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L'organizzazione dell’attività formativa può essere oggetto di ricerca sperimentale. Ecco alcuni esempi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5829480" y="4118040"/>
            <a:ext cx="3143160" cy="1353960"/>
            <a:chOff x="5829480" y="4118040"/>
            <a:chExt cx="3143160" cy="1353960"/>
          </a:xfrm>
        </p:grpSpPr>
        <p:sp>
          <p:nvSpPr>
            <p:cNvPr id="76" name=""/>
            <p:cNvSpPr/>
            <p:nvPr/>
          </p:nvSpPr>
          <p:spPr>
            <a:xfrm>
              <a:off x="5829480" y="4118040"/>
              <a:ext cx="3143160" cy="1353960"/>
            </a:xfrm>
            <a:prstGeom prst="rect">
              <a:avLst/>
            </a:prstGeom>
            <a:solidFill>
              <a:srgbClr val="bfcfe0"/>
            </a:solidFill>
            <a:ln w="15840">
              <a:solidFill>
                <a:srgbClr val="3333cc"/>
              </a:solidFill>
              <a:miter/>
            </a:ln>
            <a:effectLst>
              <a:outerShdw dist="107932" dir="2700000" blurRad="0" rotWithShape="0">
                <a:srgbClr val="eaeae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05440" y="4194000"/>
              <a:ext cx="297180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Verdana"/>
                </a:rPr>
                <a:t>Gli studenti che nel corso della scuola media hanno studiato con procedure di </a:t>
              </a:r>
              <a:r>
                <a:rPr b="0" i="1" lang="it-IT" sz="1200" spc="-1" strike="noStrike">
                  <a:solidFill>
                    <a:srgbClr val="000000"/>
                  </a:solidFill>
                  <a:latin typeface="Verdana"/>
                </a:rPr>
                <a:t>Mastery Learning</a:t>
              </a:r>
              <a:r>
                <a:rPr b="0" lang="it-IT" sz="1200" spc="-1" strike="noStrike">
                  <a:solidFill>
                    <a:srgbClr val="000000"/>
                  </a:solidFill>
                  <a:latin typeface="Verdana"/>
                </a:rPr>
                <a:t> ottengono risultati migliori rispetto a studenti che hanno seguito procedure tradizional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8" name="78042" descr=""/>
          <p:cNvPicPr/>
          <p:nvPr/>
        </p:nvPicPr>
        <p:blipFill>
          <a:blip r:embed="rId1"/>
          <a:srcRect l="0" t="0" r="0" b="9094"/>
          <a:stretch/>
        </p:blipFill>
        <p:spPr>
          <a:xfrm>
            <a:off x="3505320" y="2743200"/>
            <a:ext cx="20779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-253440" y="762120"/>
            <a:ext cx="217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Le ipotesi della ricer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610160" y="1833480"/>
            <a:ext cx="4267080" cy="444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Le procedure e gli strumenti di controllo dell’attività formativa possono essere oggetti di ricerc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d esempi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l Progetto Pilota 2 non fornisce misure valide ed attendibili e dunque è solo uno spreco di risor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'uso del metodo IPS di misurazione del profitto consente di ottenere risultati nelle abilità di produzione scritta migliori dell'uso del metodo tradizion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'uso del metodo IPS di misurazione del profitto consente di ottenere risultati nelle abilità di produzione scritta migliori dell'uso del metodo tradiziona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28600" y="2171880"/>
            <a:ext cx="3733920" cy="27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-253440" y="762120"/>
            <a:ext cx="217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Le ipotesi della ricer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572000" y="1406520"/>
            <a:ext cx="4267080" cy="41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Per formulare ipotesi verificabili è necessario 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operazionalizzare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 i concetti, cioè definirli a livello empirico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Inoltre è necessario che una proposizione contenga una sola ipotesi per poter essere facilmente verificat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Il concetto di </a:t>
            </a:r>
            <a:r>
              <a:rPr b="1" lang="it-IT" sz="1800" spc="-1" strike="noStrike" u="sng">
                <a:solidFill>
                  <a:srgbClr val="0033cc"/>
                </a:solidFill>
                <a:uFillTx/>
                <a:latin typeface="Verdana"/>
              </a:rPr>
              <a:t>operazionismo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 è legato al lavoro del fisico Percy W.  Bridgman che muoveva dall'idea che i concetti scientifici dovessero essere, come i dati scientifici, pubblic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Un concetto teorico deve dunque essere legato ad operazioni osservabili che qualsiasi persona può osservare o ripete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406520"/>
            <a:ext cx="2209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"In generale per concetto non intendiamo altro che un gruppo di operazioni; il concetto è sinonimo del corrispondente gruppo di operazioni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752480" y="3048120"/>
            <a:ext cx="1600200" cy="2263680"/>
          </a:xfrm>
          <a:prstGeom prst="rect">
            <a:avLst/>
          </a:prstGeom>
          <a:ln w="9360">
            <a:solidFill>
              <a:srgbClr val="ff9933"/>
            </a:solidFill>
            <a:miter/>
          </a:ln>
        </p:spPr>
      </p:pic>
      <p:sp>
        <p:nvSpPr>
          <p:cNvPr id="86" name=""/>
          <p:cNvSpPr/>
          <p:nvPr/>
        </p:nvSpPr>
        <p:spPr>
          <a:xfrm>
            <a:off x="1753200" y="5410080"/>
            <a:ext cx="16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Percy W.  Bridg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3200400"/>
            <a:ext cx="1219320" cy="0"/>
          </a:xfrm>
          <a:prstGeom prst="line">
            <a:avLst/>
          </a:prstGeom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3200400"/>
            <a:ext cx="0" cy="1143000"/>
          </a:xfrm>
          <a:prstGeom prst="line">
            <a:avLst/>
          </a:prstGeom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066680" y="4343400"/>
            <a:ext cx="685800" cy="0"/>
          </a:xfrm>
          <a:prstGeom prst="line">
            <a:avLst/>
          </a:prstGeom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-258480" y="762120"/>
            <a:ext cx="217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Le ipotesi della ricer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447920" y="2809800"/>
            <a:ext cx="6972120" cy="24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 geni sono infelici significa che: "Quanto più elevato è il punteggio al test di intelligenza XY tanto più basso è il punteggio al test di felicità WZ”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 geni sono infelici significa che: “il concetto di genialità ha un significato opposto e incompatibile con il concetto di felicità”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 geni sono infelici significa che: “L’osservazione di un gruppo  di persone ritenute geniali ha evidenziato un’alta correlazione con un sentimento di infelicità persona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04920" y="1368360"/>
            <a:ext cx="83055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guendo i principi dell’operazionismo la proposizione "I geni sono infelici", potrebbe essere verificata solo se trasformata in una nuova proposizione in grado di stabilire un rapporto (operazionale) tra i due concetti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Quale, tra le seguenti proposizioni, rispetta i criteri dell’operazionismo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862360" y="5705640"/>
            <a:ext cx="3417840" cy="28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-269280" y="762120"/>
            <a:ext cx="218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Il metodo della ricer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762440" y="1905120"/>
            <a:ext cx="396252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E’ possibile scegliere tra approcci e modalità diversi per procedere all’impostazione di una ricerca e alla verifica delle ipotesi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In alcuni trattati questi approcci vengono chiamati metodi e metodologie</a:t>
            </a:r>
            <a:r>
              <a:rPr b="0" lang="it-IT" sz="1600" spc="-1" strike="noStrike">
                <a:solidFill>
                  <a:srgbClr val="800080"/>
                </a:solidFill>
                <a:latin typeface="Verdana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Il termine metodo viene dal greco ed è composto da un prefisso </a:t>
            </a:r>
            <a:r>
              <a:rPr b="1" i="1" lang="it-IT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μετά</a:t>
            </a:r>
            <a:r>
              <a:rPr b="1" lang="it-IT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che indica il seguire qualcosa e dalla parola </a:t>
            </a:r>
            <a:r>
              <a:rPr b="1" i="1" lang="it-IT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όδός</a:t>
            </a:r>
            <a:r>
              <a:rPr b="1" lang="it-IT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che significa strada, percors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Noi definiremo con ‘metodo’: quel percorso che stabilisce l’impianto complessivo dell’attività di ricerca e ne è costitutivo della sua scientificità.</a:t>
            </a:r>
            <a:r>
              <a:rPr b="1" lang="it-IT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723960" y="1959120"/>
            <a:ext cx="3070080" cy="3450960"/>
          </a:xfrm>
          <a:prstGeom prst="rect">
            <a:avLst/>
          </a:prstGeom>
          <a:ln w="0">
            <a:noFill/>
          </a:ln>
          <a:effectLst>
            <a:outerShdw dist="56832" dir="7003641" blurRad="0" rotWithShape="0">
              <a:srgbClr val="dddddd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-250200" y="762120"/>
            <a:ext cx="218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Il metodo della ricer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1219320" y="2971800"/>
            <a:ext cx="1599840" cy="457200"/>
            <a:chOff x="1219320" y="2971800"/>
            <a:chExt cx="1599840" cy="457200"/>
          </a:xfrm>
        </p:grpSpPr>
        <p:sp>
          <p:nvSpPr>
            <p:cNvPr id="99" name=""/>
            <p:cNvSpPr/>
            <p:nvPr/>
          </p:nvSpPr>
          <p:spPr>
            <a:xfrm>
              <a:off x="1219320" y="3036600"/>
              <a:ext cx="1599840" cy="32688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19320" y="2971800"/>
              <a:ext cx="135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Tahoma"/>
                </a:rPr>
                <a:t>teori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1219320" y="2514600"/>
            <a:ext cx="1599840" cy="533160"/>
            <a:chOff x="1219320" y="2514600"/>
            <a:chExt cx="1599840" cy="533160"/>
          </a:xfrm>
        </p:grpSpPr>
        <p:sp>
          <p:nvSpPr>
            <p:cNvPr id="102" name=""/>
            <p:cNvSpPr/>
            <p:nvPr/>
          </p:nvSpPr>
          <p:spPr>
            <a:xfrm>
              <a:off x="1219320" y="2633400"/>
              <a:ext cx="1599840" cy="33840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219320" y="2514600"/>
              <a:ext cx="137088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Tahoma"/>
                </a:rPr>
                <a:t>stori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1219320" y="3352680"/>
            <a:ext cx="1599840" cy="457200"/>
            <a:chOff x="1219320" y="3352680"/>
            <a:chExt cx="1599840" cy="457200"/>
          </a:xfrm>
        </p:grpSpPr>
        <p:sp>
          <p:nvSpPr>
            <p:cNvPr id="105" name=""/>
            <p:cNvSpPr/>
            <p:nvPr/>
          </p:nvSpPr>
          <p:spPr>
            <a:xfrm>
              <a:off x="1219320" y="3424680"/>
              <a:ext cx="1599840" cy="32616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219320" y="3352680"/>
              <a:ext cx="1257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Tahoma"/>
                </a:rPr>
                <a:t>clini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1219320" y="3809880"/>
            <a:ext cx="16002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comparati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1219320" y="4114800"/>
            <a:ext cx="1599840" cy="533520"/>
            <a:chOff x="1219320" y="4114800"/>
            <a:chExt cx="1599840" cy="533520"/>
          </a:xfrm>
        </p:grpSpPr>
        <p:sp>
          <p:nvSpPr>
            <p:cNvPr id="109" name=""/>
            <p:cNvSpPr/>
            <p:nvPr/>
          </p:nvSpPr>
          <p:spPr>
            <a:xfrm>
              <a:off x="1219320" y="4205160"/>
              <a:ext cx="1599840" cy="36684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219320" y="4114800"/>
              <a:ext cx="159984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Tahoma"/>
                </a:rPr>
                <a:t>ricerca-azio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1219320" y="4648320"/>
            <a:ext cx="1600200" cy="380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speriment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0080" y="2743200"/>
            <a:ext cx="2210040" cy="380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scritti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410080" y="3581280"/>
            <a:ext cx="2210040" cy="381240"/>
          </a:xfrm>
          <a:prstGeom prst="rect">
            <a:avLst/>
          </a:prstGeom>
          <a:solidFill>
            <a:srgbClr val="99ccff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sata su correlazio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71560" y="199548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dalità di ricer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368520" y="2971800"/>
            <a:ext cx="1600200" cy="1600200"/>
          </a:xfrm>
          <a:prstGeom prst="ellipse">
            <a:avLst/>
          </a:prstGeom>
          <a:solidFill>
            <a:srgbClr val="0066cc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276720" y="3484440"/>
            <a:ext cx="184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Problema da risolv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486400" y="4495680"/>
            <a:ext cx="2209680" cy="381240"/>
          </a:xfrm>
          <a:prstGeom prst="rect">
            <a:avLst/>
          </a:prstGeom>
          <a:solidFill>
            <a:srgbClr val="99ccff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periment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90920" y="2514600"/>
            <a:ext cx="609120" cy="2716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086486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086486"/>
              </a:path>
            </a:pathLst>
          </a:cu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5181480" y="2438280"/>
            <a:ext cx="609120" cy="2716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086486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086486"/>
              </a:path>
            </a:pathLst>
          </a:cu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3200040" y="3809880"/>
            <a:ext cx="152280" cy="0"/>
          </a:xfrm>
          <a:prstGeom prst="line">
            <a:avLst/>
          </a:prstGeom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5028840" y="3809880"/>
            <a:ext cx="152280" cy="0"/>
          </a:xfrm>
          <a:prstGeom prst="line">
            <a:avLst/>
          </a:prstGeom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69280" y="198108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ipo di ricer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80880" y="1066680"/>
            <a:ext cx="81536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ahoma"/>
              </a:rPr>
              <a:t>La ricerca ruota attorno ad un obiettivo centrale rappresentato dal problema da risolvere. Può essere classificata sulla base dei differenti ‘tipi’ e sulla base delle differenti ‘modalità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66760" y="5581800"/>
            <a:ext cx="3368520" cy="5713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361800" y="5645160"/>
            <a:ext cx="298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6600"/>
                </a:solidFill>
                <a:latin typeface="Verdana"/>
              </a:rPr>
              <a:t>Fai clic sui differenti tipi di ricerca per una breve descrizi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>
            <a:hlinkClick r:id="rId2" action="ppaction://hlinksldjump"/>
          </p:cNvPr>
          <p:cNvSpPr/>
          <p:nvPr/>
        </p:nvSpPr>
        <p:spPr>
          <a:xfrm>
            <a:off x="1562040" y="2633760"/>
            <a:ext cx="914400" cy="338040"/>
          </a:xfrm>
          <a:custGeom>
            <a:avLst/>
            <a:gdLst>
              <a:gd name="textAreaLeft" fmla="*/ 21600 w 914400"/>
              <a:gd name="textAreaRight" fmla="*/ 892800 w 914400"/>
              <a:gd name="textAreaTop" fmla="*/ 21600 h 338040"/>
              <a:gd name="textAreaBottom" fmla="*/ 316440 h 338040"/>
            </a:gdLst>
            <a:ahLst/>
            <a:rect l="textAreaLeft" t="textAreaTop" r="textAreaRight" b="textAreaBottom"/>
            <a:pathLst>
              <a:path w="58389" h="21600">
                <a:moveTo>
                  <a:pt x="0" y="0"/>
                </a:moveTo>
                <a:lnTo>
                  <a:pt x="58389" y="0"/>
                </a:lnTo>
                <a:lnTo>
                  <a:pt x="58389" y="21600"/>
                </a:lnTo>
                <a:lnTo>
                  <a:pt x="0" y="21600"/>
                </a:lnTo>
                <a:close/>
              </a:path>
              <a:path fill="lightenLess" w="58389" h="21600">
                <a:moveTo>
                  <a:pt x="0" y="0"/>
                </a:moveTo>
                <a:lnTo>
                  <a:pt x="58389" y="0"/>
                </a:lnTo>
                <a:lnTo>
                  <a:pt x="56989" y="1400"/>
                </a:lnTo>
                <a:lnTo>
                  <a:pt x="1400" y="1400"/>
                </a:lnTo>
                <a:close/>
              </a:path>
              <a:path fill="darken" w="58389" h="21600">
                <a:moveTo>
                  <a:pt x="58389" y="0"/>
                </a:moveTo>
                <a:lnTo>
                  <a:pt x="58389" y="21600"/>
                </a:lnTo>
                <a:lnTo>
                  <a:pt x="56989" y="20200"/>
                </a:lnTo>
                <a:lnTo>
                  <a:pt x="56989" y="1400"/>
                </a:lnTo>
                <a:close/>
              </a:path>
              <a:path fill="darkenLess" w="58389" h="21600">
                <a:moveTo>
                  <a:pt x="583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989" y="20200"/>
                </a:lnTo>
                <a:close/>
              </a:path>
              <a:path fill="lighten" w="583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>
            <a:hlinkClick r:id="rId3" action="ppaction://hlinksldjump"/>
          </p:cNvPr>
          <p:cNvSpPr/>
          <p:nvPr/>
        </p:nvSpPr>
        <p:spPr>
          <a:xfrm>
            <a:off x="1562040" y="3036960"/>
            <a:ext cx="914400" cy="315720"/>
          </a:xfrm>
          <a:custGeom>
            <a:avLst/>
            <a:gdLst>
              <a:gd name="textAreaLeft" fmla="*/ 20160 w 914400"/>
              <a:gd name="textAreaRight" fmla="*/ 894240 w 914400"/>
              <a:gd name="textAreaTop" fmla="*/ 20160 h 315720"/>
              <a:gd name="textAreaBottom" fmla="*/ 295560 h 315720"/>
            </a:gdLst>
            <a:ahLst/>
            <a:rect l="textAreaLeft" t="textAreaTop" r="textAreaRight" b="textAreaBottom"/>
            <a:pathLst>
              <a:path w="62512" h="21600">
                <a:moveTo>
                  <a:pt x="0" y="0"/>
                </a:moveTo>
                <a:lnTo>
                  <a:pt x="62512" y="0"/>
                </a:lnTo>
                <a:lnTo>
                  <a:pt x="62512" y="21600"/>
                </a:lnTo>
                <a:lnTo>
                  <a:pt x="0" y="21600"/>
                </a:lnTo>
                <a:close/>
              </a:path>
              <a:path fill="lightenLess" w="62512" h="21600">
                <a:moveTo>
                  <a:pt x="0" y="0"/>
                </a:moveTo>
                <a:lnTo>
                  <a:pt x="62512" y="0"/>
                </a:lnTo>
                <a:lnTo>
                  <a:pt x="61112" y="1400"/>
                </a:lnTo>
                <a:lnTo>
                  <a:pt x="1400" y="1400"/>
                </a:lnTo>
                <a:close/>
              </a:path>
              <a:path fill="darken" w="62512" h="21600">
                <a:moveTo>
                  <a:pt x="62512" y="0"/>
                </a:moveTo>
                <a:lnTo>
                  <a:pt x="62512" y="21600"/>
                </a:lnTo>
                <a:lnTo>
                  <a:pt x="61112" y="20200"/>
                </a:lnTo>
                <a:lnTo>
                  <a:pt x="61112" y="1400"/>
                </a:lnTo>
                <a:close/>
              </a:path>
              <a:path fill="darkenLess" w="62512" h="21600">
                <a:moveTo>
                  <a:pt x="625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112" y="20200"/>
                </a:lnTo>
                <a:close/>
              </a:path>
              <a:path fill="lighten" w="625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>
            <a:hlinkClick r:id="rId4" action="ppaction://hlinksldjump"/>
          </p:cNvPr>
          <p:cNvSpPr/>
          <p:nvPr/>
        </p:nvSpPr>
        <p:spPr>
          <a:xfrm>
            <a:off x="1219320" y="3424320"/>
            <a:ext cx="1600200" cy="326880"/>
          </a:xfrm>
          <a:custGeom>
            <a:avLst/>
            <a:gdLst>
              <a:gd name="textAreaLeft" fmla="*/ 20880 w 1600200"/>
              <a:gd name="textAreaRight" fmla="*/ 1579320 w 1600200"/>
              <a:gd name="textAreaTop" fmla="*/ 20880 h 326880"/>
              <a:gd name="textAreaBottom" fmla="*/ 306000 h 326880"/>
            </a:gdLst>
            <a:ahLst/>
            <a:rect l="textAreaLeft" t="textAreaTop" r="textAreaRight" b="textAreaBottom"/>
            <a:pathLst>
              <a:path w="105648" h="21600">
                <a:moveTo>
                  <a:pt x="0" y="0"/>
                </a:moveTo>
                <a:lnTo>
                  <a:pt x="105648" y="0"/>
                </a:lnTo>
                <a:lnTo>
                  <a:pt x="105648" y="21600"/>
                </a:lnTo>
                <a:lnTo>
                  <a:pt x="0" y="21600"/>
                </a:lnTo>
                <a:close/>
              </a:path>
              <a:path fill="lightenLess" w="105648" h="21600">
                <a:moveTo>
                  <a:pt x="0" y="0"/>
                </a:moveTo>
                <a:lnTo>
                  <a:pt x="105648" y="0"/>
                </a:lnTo>
                <a:lnTo>
                  <a:pt x="104248" y="1400"/>
                </a:lnTo>
                <a:lnTo>
                  <a:pt x="1400" y="1400"/>
                </a:lnTo>
                <a:close/>
              </a:path>
              <a:path fill="darken" w="105648" h="21600">
                <a:moveTo>
                  <a:pt x="105648" y="0"/>
                </a:moveTo>
                <a:lnTo>
                  <a:pt x="105648" y="21600"/>
                </a:lnTo>
                <a:lnTo>
                  <a:pt x="104248" y="20200"/>
                </a:lnTo>
                <a:lnTo>
                  <a:pt x="104248" y="1400"/>
                </a:lnTo>
                <a:close/>
              </a:path>
              <a:path fill="darkenLess" w="105648" h="21600">
                <a:moveTo>
                  <a:pt x="105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4248" y="20200"/>
                </a:lnTo>
                <a:close/>
              </a:path>
              <a:path fill="lighten" w="105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>
            <a:hlinkClick r:id="rId5" action="ppaction://hlinksldjump"/>
          </p:cNvPr>
          <p:cNvSpPr/>
          <p:nvPr/>
        </p:nvSpPr>
        <p:spPr>
          <a:xfrm>
            <a:off x="1219320" y="3809880"/>
            <a:ext cx="1600200" cy="304920"/>
          </a:xfrm>
          <a:custGeom>
            <a:avLst/>
            <a:gdLst>
              <a:gd name="textAreaLeft" fmla="*/ 19440 w 1600200"/>
              <a:gd name="textAreaRight" fmla="*/ 1580760 w 1600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113247" h="21600">
                <a:moveTo>
                  <a:pt x="0" y="0"/>
                </a:moveTo>
                <a:lnTo>
                  <a:pt x="113247" y="0"/>
                </a:lnTo>
                <a:lnTo>
                  <a:pt x="113247" y="21600"/>
                </a:lnTo>
                <a:lnTo>
                  <a:pt x="0" y="21600"/>
                </a:lnTo>
                <a:close/>
              </a:path>
              <a:path fill="lightenLess" w="113247" h="21600">
                <a:moveTo>
                  <a:pt x="0" y="0"/>
                </a:moveTo>
                <a:lnTo>
                  <a:pt x="113247" y="0"/>
                </a:lnTo>
                <a:lnTo>
                  <a:pt x="111847" y="1400"/>
                </a:lnTo>
                <a:lnTo>
                  <a:pt x="1400" y="1400"/>
                </a:lnTo>
                <a:close/>
              </a:path>
              <a:path fill="darken" w="113247" h="21600">
                <a:moveTo>
                  <a:pt x="113247" y="0"/>
                </a:moveTo>
                <a:lnTo>
                  <a:pt x="113247" y="21600"/>
                </a:lnTo>
                <a:lnTo>
                  <a:pt x="111847" y="20200"/>
                </a:lnTo>
                <a:lnTo>
                  <a:pt x="111847" y="1400"/>
                </a:lnTo>
                <a:close/>
              </a:path>
              <a:path fill="darkenLess" w="113247" h="21600">
                <a:moveTo>
                  <a:pt x="1132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1847" y="20200"/>
                </a:lnTo>
                <a:close/>
              </a:path>
              <a:path fill="lighten" w="1132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>
            <a:hlinkClick r:id="rId6" action="ppaction://hlinksldjump"/>
          </p:cNvPr>
          <p:cNvSpPr/>
          <p:nvPr/>
        </p:nvSpPr>
        <p:spPr>
          <a:xfrm>
            <a:off x="1219320" y="4205160"/>
            <a:ext cx="1600200" cy="366840"/>
          </a:xfrm>
          <a:custGeom>
            <a:avLst/>
            <a:gdLst>
              <a:gd name="textAreaLeft" fmla="*/ 23760 w 1600200"/>
              <a:gd name="textAreaRight" fmla="*/ 1576440 w 1600200"/>
              <a:gd name="textAreaTop" fmla="*/ 23760 h 366840"/>
              <a:gd name="textAreaBottom" fmla="*/ 343080 h 366840"/>
            </a:gdLst>
            <a:ahLst/>
            <a:rect l="textAreaLeft" t="textAreaTop" r="textAreaRight" b="textAreaBottom"/>
            <a:pathLst>
              <a:path w="94151" h="21600">
                <a:moveTo>
                  <a:pt x="0" y="0"/>
                </a:moveTo>
                <a:lnTo>
                  <a:pt x="94151" y="0"/>
                </a:lnTo>
                <a:lnTo>
                  <a:pt x="94151" y="21600"/>
                </a:lnTo>
                <a:lnTo>
                  <a:pt x="0" y="21600"/>
                </a:lnTo>
                <a:close/>
              </a:path>
              <a:path fill="lightenLess" w="94151" h="21600">
                <a:moveTo>
                  <a:pt x="0" y="0"/>
                </a:moveTo>
                <a:lnTo>
                  <a:pt x="94151" y="0"/>
                </a:lnTo>
                <a:lnTo>
                  <a:pt x="92751" y="1400"/>
                </a:lnTo>
                <a:lnTo>
                  <a:pt x="1400" y="1400"/>
                </a:lnTo>
                <a:close/>
              </a:path>
              <a:path fill="darken" w="94151" h="21600">
                <a:moveTo>
                  <a:pt x="94151" y="0"/>
                </a:moveTo>
                <a:lnTo>
                  <a:pt x="94151" y="21600"/>
                </a:lnTo>
                <a:lnTo>
                  <a:pt x="92751" y="20200"/>
                </a:lnTo>
                <a:lnTo>
                  <a:pt x="92751" y="1400"/>
                </a:lnTo>
                <a:close/>
              </a:path>
              <a:path fill="darkenLess" w="94151" h="21600">
                <a:moveTo>
                  <a:pt x="941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751" y="20200"/>
                </a:lnTo>
                <a:close/>
              </a:path>
              <a:path fill="lighten" w="941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>
            <a:hlinkClick r:id="rId7" action="ppaction://hlinksldjump"/>
          </p:cNvPr>
          <p:cNvSpPr/>
          <p:nvPr/>
        </p:nvSpPr>
        <p:spPr>
          <a:xfrm>
            <a:off x="1219320" y="4648320"/>
            <a:ext cx="1600200" cy="380880"/>
          </a:xfrm>
          <a:custGeom>
            <a:avLst/>
            <a:gdLst>
              <a:gd name="textAreaLeft" fmla="*/ 24480 w 1600200"/>
              <a:gd name="textAreaRight" fmla="*/ 1575720 w 1600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90683" h="21600">
                <a:moveTo>
                  <a:pt x="0" y="0"/>
                </a:moveTo>
                <a:lnTo>
                  <a:pt x="90683" y="0"/>
                </a:lnTo>
                <a:lnTo>
                  <a:pt x="90683" y="21600"/>
                </a:lnTo>
                <a:lnTo>
                  <a:pt x="0" y="21600"/>
                </a:lnTo>
                <a:close/>
              </a:path>
              <a:path fill="lightenLess" w="90683" h="21600">
                <a:moveTo>
                  <a:pt x="0" y="0"/>
                </a:moveTo>
                <a:lnTo>
                  <a:pt x="90683" y="0"/>
                </a:lnTo>
                <a:lnTo>
                  <a:pt x="89283" y="1400"/>
                </a:lnTo>
                <a:lnTo>
                  <a:pt x="1400" y="1400"/>
                </a:lnTo>
                <a:close/>
              </a:path>
              <a:path fill="darken" w="90683" h="21600">
                <a:moveTo>
                  <a:pt x="90683" y="0"/>
                </a:moveTo>
                <a:lnTo>
                  <a:pt x="90683" y="21600"/>
                </a:lnTo>
                <a:lnTo>
                  <a:pt x="89283" y="20200"/>
                </a:lnTo>
                <a:lnTo>
                  <a:pt x="89283" y="1400"/>
                </a:lnTo>
                <a:close/>
              </a:path>
              <a:path fill="darkenLess" w="90683" h="21600">
                <a:moveTo>
                  <a:pt x="906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9283" y="20200"/>
                </a:lnTo>
                <a:close/>
              </a:path>
              <a:path fill="lighten" w="906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09:19:28Z</dcterms:created>
  <dc:creator>riccardo santilli</dc:creator>
  <dc:description/>
  <dc:language>en-US</dc:language>
  <cp:lastModifiedBy>Università degli studi di Roma "La Sapienza"</cp:lastModifiedBy>
  <dcterms:modified xsi:type="dcterms:W3CDTF">2011-03-24T13:58:38Z</dcterms:modified>
  <cp:revision>597</cp:revision>
  <dc:subject/>
  <dc:title>Presentazione di PowerPoint</dc:title>
</cp:coreProperties>
</file>